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9A1D-13B8-42FF-B702-053A42382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4EE1-A1ED-4A68-8410-61C7112AC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ED5C-47FD-43C9-8900-124E32EC5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1B09-772C-4945-906E-421ABDED2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BEB2-8AEA-4B18-B64C-B65A2A161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B1D3-B8A2-4980-9795-E993CA10D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9FC8-C818-413B-8794-A351A7D67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382F-6086-4944-A736-056622DA6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7D0F-890D-4BD4-B406-CCEBC854D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D3C5-F2D5-41DB-A755-2148D33C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3D77-3B6B-40C2-8EC5-44E830CB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1BC9-4012-4ADF-89B9-B94AD4C8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C6357-987B-46C5-9729-993837969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’MERE DE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Brogan J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19:52:12Z</dcterms:created>
  <dc:creator>USD376</dc:creator>
  <dc:description/>
  <dc:language>en-US</dc:language>
  <cp:lastModifiedBy>USD376</cp:lastModifiedBy>
  <dcterms:modified xsi:type="dcterms:W3CDTF">2010-01-06T19:58:28Z</dcterms:modified>
  <cp:revision>2</cp:revision>
  <dc:subject/>
  <dc:title>C’MERE DEER</dc:title>
</cp:coreProperties>
</file>